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ED428-3598-4ABC-879F-0BB840402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F54B8-29E1-473C-BF91-4EECA5182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F227634-4E71-4967-AE95-2BEFE10DA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9CF8F-2D06-4D6E-9654-0946030D2C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531AD-ED19-4243-B2D7-1041EDEB1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2616FB46-903F-4394-AFF5-D1A599244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E33C7-FD34-4DB8-A377-DD8947755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F32A89CA-24E5-4F2C-82E8-FAAFB52B0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094BE-B250-44C6-9E84-FF0966ADF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607446B-9D00-438F-BDC3-6DC5749D0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0DEEB-9F5C-4F9D-874E-73DD0FA7C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2CD1437D-755B-4A57-9CF2-A79643F87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A9FA8-DCC6-44AB-BBD7-D77A00B97E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EA802-79C0-44E3-8898-D7B64BEF1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CD042A07-7883-4C2C-BA9F-FDD7F8AAB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2F61F-C2D1-4961-A640-157A8BD615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533F5-ED1C-425E-BA61-B3CC8EB24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A99BAFE6-0F8B-451B-B1A1-418E5A0E5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10B80-FAE5-46A0-8685-4192B64F0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0B701B3-661B-47DF-AC4E-9C1D23F9F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922E4-A182-4BCD-BF0D-475C3BDCD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1FD8126B-4259-4EC7-A33D-576CF12AC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13207-2082-4830-A099-5F55C1953B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7C464-30EC-40E1-8F82-4454F8453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57FB6758-BAF7-40D3-8623-43C3DEE81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517F3-2F7E-410A-AD48-9E28A984DB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EF5DE-BD27-404E-9481-EE90F86AD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8E2058B-FA93-41A7-9C87-0E0395369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C0528-EE2D-4D1F-9198-542961936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60D12027-9D0C-4301-BD22-2721FB539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9D4CA-77EC-4D7A-A036-997C99791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A9B11991-567E-416F-A973-78D16E0D9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948D6-D101-4EA6-9639-6EAAF6DAD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07A72A0-EEAF-4B90-999E-CBBBEF1C2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087E6-9CC9-4F49-8B11-94959447D5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F13F4-EC70-42A5-881B-7F884F092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C484F1AD-7659-4721-9CC7-5FABC6F35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17986-369C-4491-A044-EBE0A050F4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279A9-FF1D-4455-899F-AD9C9F8C6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670E9A7D-C075-4B61-8B63-D91D96BDF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46C65-1E7F-44C9-80B4-97940AC77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FCCEE4B4-EE18-4D6C-B3A3-E273F4C5E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00BA5-5C14-4A10-B93B-3B3F300E9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4764E975-C36B-4231-8DE7-5A1E1013C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64829-8557-4745-92CE-80282652E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874852AA-AF19-4227-ABE5-3D4A0CC96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C3768-BFE1-43D6-A7D6-D62CF2BC2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2CA1759F-10B5-4E7A-A04C-542290B54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CD8AD-FB0A-472E-A38F-A8FA0FADC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AF0EE7F3-5EA9-4E31-9CAD-9052C4A3E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2C1DF-CE45-4942-9D44-90B515DBC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F5FD0886-E05A-4C7D-BBE2-67C437A9E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98C6A-F912-40C7-BDA0-02B70B370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19DB1ED2-4BDA-4CB6-8141-5124DCE5A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D78BE-E48B-4E6B-8C9F-9A1493C53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E1964EDE-1C2D-4A2C-A448-7C05ED4CF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FCA12-41E5-4B85-A3B9-C07CE4717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108AC4D-C522-4475-AEEA-2D384C89C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881EE-F6A0-413A-B17B-F7F17CE1E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08F0E726-DB79-43F2-8C4D-965584008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F32D3-35C1-4B09-AEDC-A06C99330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13A3E173-E855-4799-9CC1-6ECEB01AE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F774B-20DB-483F-9C16-91D4F7110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235383B-7AF6-49B2-ACF1-8E2B640C8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2A2D0-78E7-4E7D-8CA8-5D6C36F1C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6BBEB40A-2D57-4673-9FF6-5139BEEEA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49B82-FCA4-4DF9-8435-1BEEE5CF8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02A9BA40-8358-4CB2-AD51-FC0F24D3D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04FE1-F6DB-42B9-9E80-ADEEDEED6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7F3829BB-16F4-48AE-A5B5-0BA549002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815AC-3030-4CD2-B462-4DD4927B7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C0BC7C3F-A7AB-4118-BCCD-B6689D402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265B9-3B36-4490-97ED-BEE537C97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65F265F1-09FA-4DD1-AB72-3C9436706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20726-BCD7-4748-A9FF-2AD5A0EBA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058B4C39-DEC9-4149-8FD4-4463E8780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981C9-A7A8-4A65-BFEF-8A423876F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205DB10-3413-4569-8D21-60E716799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D9F1D-DEE9-4E95-8EB3-59D359489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8569D05A-BBE0-4FD2-8340-B5CFFD4E4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B3C20-51E9-43E0-AA6F-5DA9E0219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A567773C-9853-4185-A172-64EE10751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503C3-2C22-4A04-A720-BF455EB72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2514CDD9-508D-4369-BB35-87D6247D8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F051C-E1C5-41EC-89E3-994C20C94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568B04B8-6B4F-4C19-BE91-52583BF7F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E8A70-2C3F-4952-8C1D-94EFFB3F6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CA58D058-DDC2-4702-A67A-0D8022F28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CB9AB-4D2F-4453-964B-0CBCEB4A0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266B381-150E-4CB7-B098-052A2F48B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13E3A-62F8-4A07-A44F-77FE4C6CD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6EFA1E68-ACBC-4376-83A4-FEAA3BCB7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96774-0413-40F2-A873-E54902FC8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0F52B525-F017-4C8E-9AD2-7A8320BF2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FAF7F-2568-49F9-BD01-3C79F4712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6B3665BE-CF6A-44DE-9E11-0CD4E49BB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0EA0B-FB45-4CAA-9A01-8C54361A6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8175DD5D-FBEF-44EA-8DFB-EF88CE362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538C2-4D0B-41A5-BC8C-7DD35E9DC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F4901FB1-816D-4AE5-9A08-C830B4EF1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FC55C-C037-4D2C-8A65-237B3B7BE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8CAA67B9-B05C-45CD-AB52-13FA6197C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324E7-7935-4332-9DEA-19A33960C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1258063-AE9D-4209-B894-CD86C34A0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9C580-1583-4595-9F09-36AA71193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F05CA462-A601-4AE7-BB76-6A7ED65BE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6F796-1B6E-45FC-A057-19E588596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0337BF01-75B3-49CC-9438-D15EFD8C4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63FF51BE-999A-4F8E-9C2B-419DA2FE6832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E3C59277-7B5E-45F2-B2A0-A9B117D46A9A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" name="Picture 2" descr=""/>
          <p:cNvPicPr/>
          <p:nvPr/>
        </p:nvPicPr>
        <p:blipFill>
          <a:blip r:embed="rId2"/>
          <a:stretch/>
        </p:blipFill>
        <p:spPr>
          <a:xfrm>
            <a:off x="7596360" y="33336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E670CD60-EBA9-4D01-A5AD-F8C6DA2015A5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7885080" y="1890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22E0F610-487D-4658-833A-AD74D87B146E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rcRect l="33153" t="14477" r="33707" b="0"/>
          <a:stretch/>
        </p:blipFill>
        <p:spPr>
          <a:xfrm>
            <a:off x="7885080" y="189000"/>
            <a:ext cx="8622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A1AAE713-92E9-4D60-9DF4-2C11D476C191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457200" y="1341360"/>
            <a:ext cx="8143920" cy="180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704000" y="1206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858305E6-0F60-47FE-936D-D2D727207BC3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7956720" y="11592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1160" y="4254480"/>
            <a:ext cx="91360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O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52280" y="0"/>
            <a:ext cx="8928360" cy="2205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-61920" y="2422440"/>
            <a:ext cx="91360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" descr=""/>
          <p:cNvPicPr/>
          <p:nvPr/>
        </p:nvPicPr>
        <p:blipFill>
          <a:blip r:embed="rId1"/>
          <a:stretch/>
        </p:blipFill>
        <p:spPr>
          <a:xfrm>
            <a:off x="3780000" y="222120"/>
            <a:ext cx="1584000" cy="205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 FOR HELI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onvalescen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ypochromic anemia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ections of the respiratory tra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soriasis; Acne vulgaris; Е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zem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uberculosis of the bo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joints, skin (quiet forms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chitis and osteomalacia; Osteopor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generative rheumatic disea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sions of the peripheral motor neur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getative disorders etc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 FOR HELI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ung tubercul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s after cerebrovascular insul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todermat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ROMOTHERAP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hrom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4" name="Text Box 2" descr=""/>
          <p:cNvPicPr/>
          <p:nvPr/>
        </p:nvPicPr>
        <p:blipFill>
          <a:blip r:embed="rId1"/>
          <a:stretch/>
        </p:blipFill>
        <p:spPr>
          <a:xfrm>
            <a:off x="384120" y="1481040"/>
            <a:ext cx="844236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hrom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457200" y="1484280"/>
            <a:ext cx="8291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25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Verdana"/>
              </a:rPr>
              <a:t>COLD COLORS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blue, velvet and green) have a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edative effe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3667ed"/>
                </a:solidFill>
                <a:latin typeface="Verdana"/>
                <a:ea typeface="Microsoft YaHei"/>
              </a:rPr>
              <a:t>Blue color</a:t>
            </a:r>
            <a:r>
              <a:rPr b="1" lang="de-DE" sz="2200" spc="-1" strike="noStrike">
                <a:solidFill>
                  <a:srgbClr val="3667ed"/>
                </a:solidFill>
                <a:latin typeface="Verdana"/>
                <a:ea typeface="Microsoft YaHe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for color neutralization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(icterus neonatorum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; improves motor-coordinative processe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520018"/>
                </a:solidFill>
                <a:latin typeface="Verdana"/>
                <a:ea typeface="Microsoft YaHei"/>
              </a:rPr>
              <a:t>Velvet colo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lows the breathing rhythm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but deepens and increases ventilation capacity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Verdana"/>
                <a:ea typeface="Microsoft YaHei"/>
              </a:rPr>
              <a:t>Green colo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as a calming effect and improves anabolic process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LTRAVIOLET RA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UV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Penetration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0,1-0,5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m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538200" y="1773360"/>
            <a:ext cx="8058600" cy="1906560"/>
            <a:chOff x="538200" y="1773360"/>
            <a:chExt cx="8058600" cy="1906560"/>
          </a:xfrm>
        </p:grpSpPr>
        <p:cxnSp>
          <p:nvCxnSpPr>
            <p:cNvPr id="292" name="AutoShape 4"/>
            <p:cNvCxnSpPr/>
            <p:nvPr/>
          </p:nvCxnSpPr>
          <p:spPr>
            <a:xfrm>
              <a:off x="538200" y="213156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cxnSp>
          <p:nvCxnSpPr>
            <p:cNvPr id="293" name="AutoShape 5"/>
            <p:cNvCxnSpPr/>
            <p:nvPr/>
          </p:nvCxnSpPr>
          <p:spPr>
            <a:xfrm>
              <a:off x="538200" y="292464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sp>
          <p:nvSpPr>
            <p:cNvPr id="294" name="Line 6"/>
            <p:cNvSpPr/>
            <p:nvPr/>
          </p:nvSpPr>
          <p:spPr>
            <a:xfrm>
              <a:off x="214632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Line 7"/>
            <p:cNvSpPr/>
            <p:nvPr/>
          </p:nvSpPr>
          <p:spPr>
            <a:xfrm>
              <a:off x="374328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Line 8"/>
            <p:cNvSpPr/>
            <p:nvPr/>
          </p:nvSpPr>
          <p:spPr>
            <a:xfrm>
              <a:off x="533700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Line 9"/>
            <p:cNvSpPr/>
            <p:nvPr/>
          </p:nvSpPr>
          <p:spPr>
            <a:xfrm>
              <a:off x="693576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3962880" y="1773360"/>
              <a:ext cx="1198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280 - 315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5547240" y="1773360"/>
              <a:ext cx="1198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315 - 38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2385360" y="1773360"/>
              <a:ext cx="12459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13,6 - 28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" name="Text Box 13"/>
            <p:cNvSpPr/>
            <p:nvPr/>
          </p:nvSpPr>
          <p:spPr>
            <a:xfrm>
              <a:off x="593280" y="3069360"/>
              <a:ext cx="8056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Х - RAYS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2" name="Text Box 14"/>
            <p:cNvSpPr/>
            <p:nvPr/>
          </p:nvSpPr>
          <p:spPr>
            <a:xfrm>
              <a:off x="7279920" y="3069360"/>
              <a:ext cx="767520" cy="6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VISIBLE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RAYS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3" name="Text Box 15"/>
            <p:cNvSpPr/>
            <p:nvPr/>
          </p:nvSpPr>
          <p:spPr>
            <a:xfrm>
              <a:off x="4220640" y="2364120"/>
              <a:ext cx="5770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UV-B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4" name="Text Box 16"/>
            <p:cNvSpPr/>
            <p:nvPr/>
          </p:nvSpPr>
          <p:spPr>
            <a:xfrm>
              <a:off x="5902200" y="2364120"/>
              <a:ext cx="5799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UV-А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" name="Text Box 17"/>
            <p:cNvSpPr/>
            <p:nvPr/>
          </p:nvSpPr>
          <p:spPr>
            <a:xfrm>
              <a:off x="2655360" y="2364120"/>
              <a:ext cx="5709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UV-C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ransition of UV rays through atmosp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457200" y="1484280"/>
            <a:ext cx="5059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UVC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s almost completely absorb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the ozone layer and by atmosphere oxygen (О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UVB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i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reatly absorb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the ozone layer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UV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reaches great amounts in the earth’s surface, because it i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orly absorb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the ozone lay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Sources of UV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tur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Sun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tifici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therm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- are not used in therap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luminisc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– quartz lamps with a mercury ar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QUARTZ LAM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3816360" cy="36878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"/>
          <p:cNvPicPr/>
          <p:nvPr/>
        </p:nvPicPr>
        <p:blipFill>
          <a:blip r:embed="rId2"/>
          <a:srcRect l="47903" t="-418" r="0" b="0"/>
          <a:stretch/>
        </p:blipFill>
        <p:spPr>
          <a:xfrm>
            <a:off x="826920" y="1916280"/>
            <a:ext cx="256392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BASIC TE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28760" y="1357200"/>
            <a:ext cx="84358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HOTOTHERAPY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se of the light energy of the Sun or artificial sources of ligh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ght belongs to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lectromagnetic spectru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consists of the particle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hoton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ize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Е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the light quantum depends o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ght quantum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Е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nck’s constan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=6,626 x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-34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J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c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ed of light travelling through a vacuum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300.000km/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714240" y="3500280"/>
            <a:ext cx="754092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"/>
          <p:cNvSpPr/>
          <p:nvPr/>
        </p:nvSpPr>
        <p:spPr>
          <a:xfrm>
            <a:off x="412920" y="63360"/>
            <a:ext cx="69944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r>
              <a:rPr b="1" lang="en-GB" sz="2200" spc="-1" strike="noStrike">
                <a:solidFill>
                  <a:srgbClr val="f0000c"/>
                </a:solidFill>
                <a:latin typeface="Verdana"/>
              </a:rPr>
              <a:t>BIOLOGICAL AND PHYSIOLOGICAL EFFECTS OF UV RADIATION</a:t>
            </a: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395280" y="1557360"/>
            <a:ext cx="8424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9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tochemica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ffect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oking chemical reactions by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hange of the atomic arrangement and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Verdana"/>
              </a:rPr>
              <a:t>ratio in a molecule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vi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otosinthesis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ree radicals are formed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nzymes are activated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ease of biologically active material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histamin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etylcholine etc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toelectric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ffect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 of the atomic balance by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mission of the electron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ransition of colloids from the state of salt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ge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aturation of proteins and inactivation of enzymes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luoresce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ec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bility of some substances to reemit the absorbed Е of UV radiation of one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365,5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Wood’s ligh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ll directions, but with high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for diagnostic purpo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f0000c"/>
                </a:solidFill>
                <a:uFillTx/>
                <a:latin typeface="Verdana"/>
              </a:rPr>
              <a:t>LOCAL EFFECTS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457200" y="1844640"/>
            <a:ext cx="8143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3440" indent="-16344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ythema– chemical; latent period 4-6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3440" indent="-16344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gme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3440" indent="-16344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mulation of cell regeneration and epytheliza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due to increase in the number of the cell division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63440" indent="-16344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tericide and bacteriostatic eff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 u="sng">
                <a:solidFill>
                  <a:srgbClr val="f0000c"/>
                </a:solidFill>
                <a:uFillTx/>
                <a:latin typeface="Verdana"/>
              </a:rPr>
              <a:t>REFLEXIVE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 REACTIONS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y occur via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utivisceral reflex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ath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secretion of gastric jui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intestinal peristal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elimination of water and electrolites through the kidne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breath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blood pressur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analges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otophobia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 u="sng">
                <a:solidFill>
                  <a:srgbClr val="f0000c"/>
                </a:solidFill>
                <a:uFillTx/>
                <a:latin typeface="Verdana"/>
              </a:rPr>
              <a:t>GENERAL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 EFFECTS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250920" y="1268280"/>
            <a:ext cx="8361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Consequences of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photochemical effect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abol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mber of Er and Hgb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mber of Le and immun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version of provitamin 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itamin D3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rmalization of Ca and 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rmalization of glycemia, cholestero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ion of the function of the thyroid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adrenal and sexual gland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HERAPEUTIC EFFECT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7400" indent="-3366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Analges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roph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Improvement of regeneration (epithelization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VIDUAL SENSITIVITY TO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Pigment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Ra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Body region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Physiological conditions (menses, pregnancy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Diseases (DM, albinism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Use of photosensitiz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PHOTOSENSITIZ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ndogenou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bile col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porphirin, thyroxin, gonadotropic hormones, adrenalin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, insuli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xogenou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heavy metal sal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penicillin,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tetracycli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sulphonamides, rivanol, eosin, gold salts etc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BIOD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360360" y="1432080"/>
            <a:ext cx="8143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 of individual and regional sensi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IODOSI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s the 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time interval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[min]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f radiation during which UV rays from a known source, from a certain distance, cause just perceptible erythema on the skin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minimal erythemal dos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iodosimeter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with 5 fiel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with 3 fields, by Prof. Rotovic and Prof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Milicev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7104240" y="4098960"/>
            <a:ext cx="1000080" cy="1662120"/>
            <a:chOff x="7104240" y="4098960"/>
            <a:chExt cx="1000080" cy="1662120"/>
          </a:xfrm>
        </p:grpSpPr>
        <p:sp>
          <p:nvSpPr>
            <p:cNvPr id="330" name="Rectangle 4"/>
            <p:cNvSpPr/>
            <p:nvPr/>
          </p:nvSpPr>
          <p:spPr>
            <a:xfrm>
              <a:off x="7180200" y="4098960"/>
              <a:ext cx="924120" cy="16621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" name="Rectangle 5"/>
            <p:cNvSpPr/>
            <p:nvPr/>
          </p:nvSpPr>
          <p:spPr>
            <a:xfrm>
              <a:off x="7304040" y="4241880"/>
              <a:ext cx="654120" cy="306360"/>
            </a:xfrm>
            <a:prstGeom prst="rect">
              <a:avLst/>
            </a:prstGeom>
            <a:solidFill>
              <a:srgbClr val="dddddd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2" name="Rectangle 6"/>
            <p:cNvSpPr/>
            <p:nvPr/>
          </p:nvSpPr>
          <p:spPr>
            <a:xfrm>
              <a:off x="7304040" y="4765680"/>
              <a:ext cx="654120" cy="306360"/>
            </a:xfrm>
            <a:prstGeom prst="rect">
              <a:avLst/>
            </a:prstGeom>
            <a:solidFill>
              <a:srgbClr val="dddddd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7304040" y="5251320"/>
              <a:ext cx="654120" cy="306360"/>
            </a:xfrm>
            <a:prstGeom prst="rect">
              <a:avLst/>
            </a:prstGeom>
            <a:solidFill>
              <a:srgbClr val="dddddd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4" name="Text Box 8"/>
            <p:cNvSpPr/>
            <p:nvPr/>
          </p:nvSpPr>
          <p:spPr>
            <a:xfrm>
              <a:off x="7104240" y="4270320"/>
              <a:ext cx="591840" cy="12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ETERMINIATION OF BIOD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449280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TERPRETATION OF BIOD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8" name="Group 2"/>
          <p:cNvGrpSpPr/>
          <p:nvPr/>
        </p:nvGrpSpPr>
        <p:grpSpPr>
          <a:xfrm>
            <a:off x="539640" y="1557360"/>
            <a:ext cx="7985160" cy="5032440"/>
            <a:chOff x="539640" y="1557360"/>
            <a:chExt cx="7985160" cy="5032440"/>
          </a:xfrm>
        </p:grpSpPr>
        <p:sp>
          <p:nvSpPr>
            <p:cNvPr id="339" name="Rectangle 3"/>
            <p:cNvSpPr/>
            <p:nvPr/>
          </p:nvSpPr>
          <p:spPr>
            <a:xfrm>
              <a:off x="539640" y="1557360"/>
              <a:ext cx="2301120" cy="169488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Degree of erythema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0" name="Rectangle 4"/>
            <p:cNvSpPr/>
            <p:nvPr/>
          </p:nvSpPr>
          <p:spPr>
            <a:xfrm>
              <a:off x="2847240" y="1557360"/>
              <a:ext cx="3461400" cy="1141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Exposure time in min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1" name="Rectangle 5"/>
            <p:cNvSpPr/>
            <p:nvPr/>
          </p:nvSpPr>
          <p:spPr>
            <a:xfrm>
              <a:off x="6316920" y="1557360"/>
              <a:ext cx="2197800" cy="169488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Biodosis in </a:t>
              </a: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min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2" name="Rectangle 6"/>
            <p:cNvSpPr/>
            <p:nvPr/>
          </p:nvSpPr>
          <p:spPr>
            <a:xfrm>
              <a:off x="2847240" y="270792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3" name="Rectangle 7"/>
            <p:cNvSpPr/>
            <p:nvPr/>
          </p:nvSpPr>
          <p:spPr>
            <a:xfrm>
              <a:off x="4004280" y="27079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4" name="Rectangle 8"/>
            <p:cNvSpPr/>
            <p:nvPr/>
          </p:nvSpPr>
          <p:spPr>
            <a:xfrm>
              <a:off x="5158440" y="27079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5" name="Rectangle 9"/>
            <p:cNvSpPr/>
            <p:nvPr/>
          </p:nvSpPr>
          <p:spPr>
            <a:xfrm>
              <a:off x="539640" y="326160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Mild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6" name="Rectangle 10"/>
            <p:cNvSpPr/>
            <p:nvPr/>
          </p:nvSpPr>
          <p:spPr>
            <a:xfrm>
              <a:off x="2847240" y="3261600"/>
              <a:ext cx="114912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" name="Rectangle 11"/>
            <p:cNvSpPr/>
            <p:nvPr/>
          </p:nvSpPr>
          <p:spPr>
            <a:xfrm>
              <a:off x="4004280" y="326160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8" name="Rectangle 12"/>
            <p:cNvSpPr/>
            <p:nvPr/>
          </p:nvSpPr>
          <p:spPr>
            <a:xfrm>
              <a:off x="5158440" y="326160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9" name="Rectangle 13"/>
            <p:cNvSpPr/>
            <p:nvPr/>
          </p:nvSpPr>
          <p:spPr>
            <a:xfrm>
              <a:off x="6316920" y="3261600"/>
              <a:ext cx="219780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0" name="Rectangle 14"/>
            <p:cNvSpPr/>
            <p:nvPr/>
          </p:nvSpPr>
          <p:spPr>
            <a:xfrm>
              <a:off x="539640" y="381420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Severe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1" name="Rectangle 15"/>
            <p:cNvSpPr/>
            <p:nvPr/>
          </p:nvSpPr>
          <p:spPr>
            <a:xfrm>
              <a:off x="2847240" y="381420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2" name="Rectangle 16"/>
            <p:cNvSpPr/>
            <p:nvPr/>
          </p:nvSpPr>
          <p:spPr>
            <a:xfrm>
              <a:off x="4004280" y="381420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+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3" name="Rectangle 17"/>
            <p:cNvSpPr/>
            <p:nvPr/>
          </p:nvSpPr>
          <p:spPr>
            <a:xfrm>
              <a:off x="5158440" y="381420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4" name="Rectangle 18"/>
            <p:cNvSpPr/>
            <p:nvPr/>
          </p:nvSpPr>
          <p:spPr>
            <a:xfrm>
              <a:off x="6316920" y="3814200"/>
              <a:ext cx="219780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0,5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" name="Rectangle 19"/>
            <p:cNvSpPr/>
            <p:nvPr/>
          </p:nvSpPr>
          <p:spPr>
            <a:xfrm>
              <a:off x="539640" y="436788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Mild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" name="Rectangle 20"/>
            <p:cNvSpPr/>
            <p:nvPr/>
          </p:nvSpPr>
          <p:spPr>
            <a:xfrm>
              <a:off x="2847240" y="4367880"/>
              <a:ext cx="114912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7" name="Rectangle 21"/>
            <p:cNvSpPr/>
            <p:nvPr/>
          </p:nvSpPr>
          <p:spPr>
            <a:xfrm>
              <a:off x="4004280" y="436788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8" name="Rectangle 22"/>
            <p:cNvSpPr/>
            <p:nvPr/>
          </p:nvSpPr>
          <p:spPr>
            <a:xfrm>
              <a:off x="5158440" y="436788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9" name="Rectangle 23"/>
            <p:cNvSpPr/>
            <p:nvPr/>
          </p:nvSpPr>
          <p:spPr>
            <a:xfrm>
              <a:off x="6316920" y="4367880"/>
              <a:ext cx="219780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0" name="Rectangle 24"/>
            <p:cNvSpPr/>
            <p:nvPr/>
          </p:nvSpPr>
          <p:spPr>
            <a:xfrm>
              <a:off x="539640" y="492336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Severe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1" name="Rectangle 25"/>
            <p:cNvSpPr/>
            <p:nvPr/>
          </p:nvSpPr>
          <p:spPr>
            <a:xfrm>
              <a:off x="2847240" y="492336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" name="Rectangle 26"/>
            <p:cNvSpPr/>
            <p:nvPr/>
          </p:nvSpPr>
          <p:spPr>
            <a:xfrm>
              <a:off x="4004280" y="492336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" name="Rectangle 27"/>
            <p:cNvSpPr/>
            <p:nvPr/>
          </p:nvSpPr>
          <p:spPr>
            <a:xfrm>
              <a:off x="5158440" y="492336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+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" name="Rectangle 28"/>
            <p:cNvSpPr/>
            <p:nvPr/>
          </p:nvSpPr>
          <p:spPr>
            <a:xfrm>
              <a:off x="6316920" y="4923360"/>
              <a:ext cx="219780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1,5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" name="Rectangle 29"/>
            <p:cNvSpPr/>
            <p:nvPr/>
          </p:nvSpPr>
          <p:spPr>
            <a:xfrm>
              <a:off x="539640" y="5478480"/>
              <a:ext cx="2301120" cy="54756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Mild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6" name="Rectangle 30"/>
            <p:cNvSpPr/>
            <p:nvPr/>
          </p:nvSpPr>
          <p:spPr>
            <a:xfrm>
              <a:off x="2847240" y="5478480"/>
              <a:ext cx="114912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7" name="Rectangle 31"/>
            <p:cNvSpPr/>
            <p:nvPr/>
          </p:nvSpPr>
          <p:spPr>
            <a:xfrm>
              <a:off x="4004280" y="5478480"/>
              <a:ext cx="115056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8" name="Rectangle 32"/>
            <p:cNvSpPr/>
            <p:nvPr/>
          </p:nvSpPr>
          <p:spPr>
            <a:xfrm>
              <a:off x="5158440" y="5478480"/>
              <a:ext cx="115056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9" name="Rectangle 33"/>
            <p:cNvSpPr/>
            <p:nvPr/>
          </p:nvSpPr>
          <p:spPr>
            <a:xfrm>
              <a:off x="6316920" y="5478480"/>
              <a:ext cx="219780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0" name="Rectangle 34"/>
            <p:cNvSpPr/>
            <p:nvPr/>
          </p:nvSpPr>
          <p:spPr>
            <a:xfrm>
              <a:off x="539640" y="603432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Severe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1" name="Rectangle 35"/>
            <p:cNvSpPr/>
            <p:nvPr/>
          </p:nvSpPr>
          <p:spPr>
            <a:xfrm>
              <a:off x="2847240" y="603432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" name="Rectangle 36"/>
            <p:cNvSpPr/>
            <p:nvPr/>
          </p:nvSpPr>
          <p:spPr>
            <a:xfrm>
              <a:off x="4004280" y="60343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" name="Rectangle 37"/>
            <p:cNvSpPr/>
            <p:nvPr/>
          </p:nvSpPr>
          <p:spPr>
            <a:xfrm>
              <a:off x="5158440" y="60343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4" name="Rectangle 38"/>
            <p:cNvSpPr/>
            <p:nvPr/>
          </p:nvSpPr>
          <p:spPr>
            <a:xfrm>
              <a:off x="6316920" y="6034320"/>
              <a:ext cx="219780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3,5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5" name="Line 39"/>
            <p:cNvSpPr/>
            <p:nvPr/>
          </p:nvSpPr>
          <p:spPr>
            <a:xfrm>
              <a:off x="2847240" y="1557360"/>
              <a:ext cx="0" cy="1141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6" name="Line 40"/>
            <p:cNvSpPr/>
            <p:nvPr/>
          </p:nvSpPr>
          <p:spPr>
            <a:xfrm>
              <a:off x="2847240" y="2707920"/>
              <a:ext cx="0" cy="5472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7" name="Line 41"/>
            <p:cNvSpPr/>
            <p:nvPr/>
          </p:nvSpPr>
          <p:spPr>
            <a:xfrm>
              <a:off x="2847240" y="3261600"/>
              <a:ext cx="0" cy="33184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8" name="Line 42"/>
            <p:cNvSpPr/>
            <p:nvPr/>
          </p:nvSpPr>
          <p:spPr>
            <a:xfrm>
              <a:off x="4004280" y="2707920"/>
              <a:ext cx="0" cy="3873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9" name="Line 43"/>
            <p:cNvSpPr/>
            <p:nvPr/>
          </p:nvSpPr>
          <p:spPr>
            <a:xfrm>
              <a:off x="5158440" y="2707920"/>
              <a:ext cx="0" cy="3873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" name="Line 44"/>
            <p:cNvSpPr/>
            <p:nvPr/>
          </p:nvSpPr>
          <p:spPr>
            <a:xfrm>
              <a:off x="6316920" y="1557360"/>
              <a:ext cx="0" cy="1141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" name="Line 45"/>
            <p:cNvSpPr/>
            <p:nvPr/>
          </p:nvSpPr>
          <p:spPr>
            <a:xfrm>
              <a:off x="6316920" y="2707920"/>
              <a:ext cx="0" cy="5472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2" name="Line 46"/>
            <p:cNvSpPr/>
            <p:nvPr/>
          </p:nvSpPr>
          <p:spPr>
            <a:xfrm>
              <a:off x="6316920" y="3261600"/>
              <a:ext cx="0" cy="33184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3" name="Line 47"/>
            <p:cNvSpPr/>
            <p:nvPr/>
          </p:nvSpPr>
          <p:spPr>
            <a:xfrm>
              <a:off x="2847240" y="2707920"/>
              <a:ext cx="346140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4" name="Line 48"/>
            <p:cNvSpPr/>
            <p:nvPr/>
          </p:nvSpPr>
          <p:spPr>
            <a:xfrm>
              <a:off x="539640" y="3261600"/>
              <a:ext cx="23011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5" name="Line 49"/>
            <p:cNvSpPr/>
            <p:nvPr/>
          </p:nvSpPr>
          <p:spPr>
            <a:xfrm>
              <a:off x="2847240" y="3261600"/>
              <a:ext cx="3461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6" name="Line 50"/>
            <p:cNvSpPr/>
            <p:nvPr/>
          </p:nvSpPr>
          <p:spPr>
            <a:xfrm>
              <a:off x="6316920" y="3261600"/>
              <a:ext cx="219780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7" name="Line 51"/>
            <p:cNvSpPr/>
            <p:nvPr/>
          </p:nvSpPr>
          <p:spPr>
            <a:xfrm>
              <a:off x="539640" y="381420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8" name="Line 52"/>
            <p:cNvSpPr/>
            <p:nvPr/>
          </p:nvSpPr>
          <p:spPr>
            <a:xfrm>
              <a:off x="539640" y="436788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" name="Line 53"/>
            <p:cNvSpPr/>
            <p:nvPr/>
          </p:nvSpPr>
          <p:spPr>
            <a:xfrm>
              <a:off x="539640" y="492336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" name="Line 54"/>
            <p:cNvSpPr/>
            <p:nvPr/>
          </p:nvSpPr>
          <p:spPr>
            <a:xfrm>
              <a:off x="539640" y="547848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1" name="Line 55"/>
            <p:cNvSpPr/>
            <p:nvPr/>
          </p:nvSpPr>
          <p:spPr>
            <a:xfrm>
              <a:off x="539640" y="603432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2" name="Line 56"/>
            <p:cNvSpPr/>
            <p:nvPr/>
          </p:nvSpPr>
          <p:spPr>
            <a:xfrm>
              <a:off x="539640" y="1557360"/>
              <a:ext cx="0" cy="50245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3" name="Line 57"/>
            <p:cNvSpPr/>
            <p:nvPr/>
          </p:nvSpPr>
          <p:spPr>
            <a:xfrm>
              <a:off x="8524800" y="1557360"/>
              <a:ext cx="0" cy="50245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4" name="Line 58"/>
            <p:cNvSpPr/>
            <p:nvPr/>
          </p:nvSpPr>
          <p:spPr>
            <a:xfrm>
              <a:off x="539640" y="155736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5" name="Line 59"/>
            <p:cNvSpPr/>
            <p:nvPr/>
          </p:nvSpPr>
          <p:spPr>
            <a:xfrm>
              <a:off x="539640" y="658980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600" spc="-1" strike="noStrike">
                <a:solidFill>
                  <a:srgbClr val="f0000c"/>
                </a:solidFill>
                <a:latin typeface="Verdana"/>
              </a:rPr>
              <a:t>EM </a:t>
            </a:r>
            <a:r>
              <a:rPr b="1" lang="en-US" sz="2600" spc="-1" strike="noStrike">
                <a:solidFill>
                  <a:srgbClr val="f0000c"/>
                </a:solidFill>
                <a:latin typeface="Verdana"/>
              </a:rPr>
              <a:t>SPECTRUM ACCORDING TO THE WAVELENGTH OF ACTIVE</a:t>
            </a:r>
            <a:r>
              <a:rPr b="1" lang="de-DE" sz="2600" spc="-1" strike="noStrike">
                <a:solidFill>
                  <a:srgbClr val="f0000c"/>
                </a:solidFill>
                <a:latin typeface="Verdana"/>
              </a:rPr>
              <a:t> ЕМ </a:t>
            </a:r>
            <a:r>
              <a:rPr b="1" lang="en-US" sz="2600" spc="-1" strike="noStrike">
                <a:solidFill>
                  <a:srgbClr val="f0000c"/>
                </a:solidFill>
                <a:latin typeface="Verdana"/>
              </a:rPr>
              <a:t>RAY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5905440" cy="3816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"/>
          <p:cNvSpPr/>
          <p:nvPr/>
        </p:nvSpPr>
        <p:spPr>
          <a:xfrm>
            <a:off x="2530080" y="2013120"/>
            <a:ext cx="270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282480" y="1969920"/>
            <a:ext cx="38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670400" y="1890720"/>
            <a:ext cx="261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ᵞ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5075280" y="1984320"/>
            <a:ext cx="328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5622840" y="1984320"/>
            <a:ext cx="592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cr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6263280" y="1969920"/>
            <a:ext cx="997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diowa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UV 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b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n children ⅛ of biodosis, in adults ¼, 1/3 or ½ of biodo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just perceptible rednes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 1-3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rythe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per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-5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intensive erythema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bulla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rely applie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skin diseases with  thickened epidermal stratu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UV 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b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n children ⅛ of biodosis, in adults ¼, 1/3 or ½ of biodo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just perceptible rednes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 1-3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rythe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per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-5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intensive erythema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bulla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rely applie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skin diseases with  thickened epidermal stratu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JURIES CAUSED BY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ratoconjunctivitis ("snow blindness") when looking directly at the source of radiation;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aring protective gla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rns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en radiation exposure is overdo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ancerous and cancerous skin lesions (important for cosmetology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cations for GENERAL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Reconvalesc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Anem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Osteopor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Osteomalac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Rachi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Osteomyeli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cations for LOCAL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457200" y="1413000"/>
            <a:ext cx="84358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ki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diseases - alopecia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soriasi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cubit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Neurological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seases - neuralgia, neuriti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, cervical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Sy, lumbar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Sy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heumatological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seases – degenerative rheumatism,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extraarticular rheumatism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Orthopedics –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conditions after bone fractures, soft-tissue injurie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Gynecological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seases – adnexitis, dysmenorrhe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Vascular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urgery – vascular-based torpid wounds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lcus cruri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Ophthalmology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- blepharitis, trachom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457200" y="1628640"/>
            <a:ext cx="81439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tive pulmonary tubercul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yperthyroid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abet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sychiatric disea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vanced cachexia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Photogenic skin diseases - pellagra, lupu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l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alignant skin tum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Roentgen dermat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Hypervitaminosis B1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INFRARED RA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FRARED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457200" y="3000240"/>
            <a:ext cx="814392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96840" indent="-33804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hort IR ray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770 - 1500 n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96840" indent="-33804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ong I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ray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1500 n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968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96840" indent="-33804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Verdana"/>
              </a:rPr>
              <a:t>Penetration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</a:rPr>
              <a:t>: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0,5-1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2" name="Group 3"/>
          <p:cNvGrpSpPr/>
          <p:nvPr/>
        </p:nvGrpSpPr>
        <p:grpSpPr>
          <a:xfrm>
            <a:off x="538200" y="1773360"/>
            <a:ext cx="8058600" cy="1906560"/>
            <a:chOff x="538200" y="1773360"/>
            <a:chExt cx="8058600" cy="1906560"/>
          </a:xfrm>
        </p:grpSpPr>
        <p:cxnSp>
          <p:nvCxnSpPr>
            <p:cNvPr id="413" name="AutoShape 4"/>
            <p:cNvCxnSpPr/>
            <p:nvPr/>
          </p:nvCxnSpPr>
          <p:spPr>
            <a:xfrm>
              <a:off x="538200" y="213336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cxnSp>
          <p:nvCxnSpPr>
            <p:cNvPr id="414" name="AutoShape 5"/>
            <p:cNvCxnSpPr/>
            <p:nvPr/>
          </p:nvCxnSpPr>
          <p:spPr>
            <a:xfrm>
              <a:off x="538200" y="292608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sp>
          <p:nvSpPr>
            <p:cNvPr id="415" name="Line 6"/>
            <p:cNvSpPr/>
            <p:nvPr/>
          </p:nvSpPr>
          <p:spPr>
            <a:xfrm>
              <a:off x="214632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6" name="Line 7"/>
            <p:cNvSpPr/>
            <p:nvPr/>
          </p:nvSpPr>
          <p:spPr>
            <a:xfrm>
              <a:off x="374328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7" name="Line 8"/>
            <p:cNvSpPr/>
            <p:nvPr/>
          </p:nvSpPr>
          <p:spPr>
            <a:xfrm>
              <a:off x="533700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8" name="Line 9"/>
            <p:cNvSpPr/>
            <p:nvPr/>
          </p:nvSpPr>
          <p:spPr>
            <a:xfrm>
              <a:off x="693576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9" name="Text Box 10"/>
            <p:cNvSpPr/>
            <p:nvPr/>
          </p:nvSpPr>
          <p:spPr>
            <a:xfrm>
              <a:off x="3985920" y="1773360"/>
              <a:ext cx="1387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1500 - 300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712480" y="1785960"/>
              <a:ext cx="100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 300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1" name="Text Box 12"/>
            <p:cNvSpPr/>
            <p:nvPr/>
          </p:nvSpPr>
          <p:spPr>
            <a:xfrm>
              <a:off x="2390400" y="1773360"/>
              <a:ext cx="12931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770 - 150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577440" y="3069360"/>
              <a:ext cx="767520" cy="6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VISIBLE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LIGHT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7283880" y="3069360"/>
              <a:ext cx="12582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MICROWAVES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4" name="Text Box 15"/>
            <p:cNvSpPr/>
            <p:nvPr/>
          </p:nvSpPr>
          <p:spPr>
            <a:xfrm>
              <a:off x="4229640" y="2364120"/>
              <a:ext cx="5176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IR-B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5" name="Text Box 16"/>
            <p:cNvSpPr/>
            <p:nvPr/>
          </p:nvSpPr>
          <p:spPr>
            <a:xfrm>
              <a:off x="5910840" y="2364120"/>
              <a:ext cx="5115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IR-C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6" name="Text Box 17"/>
            <p:cNvSpPr/>
            <p:nvPr/>
          </p:nvSpPr>
          <p:spPr>
            <a:xfrm>
              <a:off x="2664720" y="2364120"/>
              <a:ext cx="5205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IR-А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OURCES OF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Natural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source is sunligh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rtificial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urc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„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ollux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lamp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eater reflector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emission of long wav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Light baths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full, semi, partial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RTIFICIAL SOURCES OF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3924360" y="1773360"/>
            <a:ext cx="3600360" cy="4751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"/>
          <p:cNvPicPr/>
          <p:nvPr/>
        </p:nvPicPr>
        <p:blipFill>
          <a:blip r:embed="rId2"/>
          <a:stretch/>
        </p:blipFill>
        <p:spPr>
          <a:xfrm>
            <a:off x="755640" y="2276640"/>
            <a:ext cx="338472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YPES OF PHO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liotherap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the use of natural sun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romotherap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ction of certain colors from the visible spectr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ltraviolet rays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UV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y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rared rays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IR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y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erotherap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ASE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- Light Amplificatio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y Stimulated Emission of Radiatio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PHYSIOLOGICAL EFFECT OF IR RADIAT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 of the photon of IR ra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olecular excita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A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crease of the local tissue tº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Local re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erythe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(without latent period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 thermal, inhomogenous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 unclearly demarcated, more intense along the capillaries, short-lasting, lost completely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pigme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HYSIOLOGICAL EFFECT OF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Reflexive re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Vasodilation involving also deeper tissu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via cutivisceral Rf, via Head zones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Consensual rea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General reac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organism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Btº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sweati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breath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heart 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HERAPEUTIC EFFECT OF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nalge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edematous eff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pasmolitic eff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ophic (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gran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YNERGISM AND ANTAGONISM OF IR AND UV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ynerg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- IR rays applied simulateneously or before UV rays </a:t>
            </a: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increase the effec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UV r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tagon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IR rays applied after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V rays </a:t>
            </a: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decrease the effect of U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R radiation from the lamp is the most efficient method of burn prevention, if UV radiation is overdosed (if used before the develop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ythema!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PPLICATION TECHNIQUE  AND 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dependent (rarely) or introductory (more common) proced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pidermal defects are not a contraindi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 patient wears protective glasses (catarac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osing 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according to subjective feel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xposure time 5-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(20)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mi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rie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10-15 days,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paus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10 d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274680" y="457200"/>
            <a:ext cx="87328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PPLICATION TECHNIQUE 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457200" y="1584360"/>
            <a:ext cx="836280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OSE 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radiation 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Verdana"/>
              </a:rPr>
              <a:t>intensity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 x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cos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 of the angle of incidence 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Verdana"/>
              </a:rPr>
              <a:t>duration time</a:t>
            </a:r>
            <a:r>
              <a:rPr b="1" lang="sr-Latn-RS" sz="1800" spc="-1" strike="noStrike" u="sng">
                <a:solidFill>
                  <a:srgbClr val="ff0000"/>
                </a:solidFill>
                <a:uFillTx/>
                <a:latin typeface="Verdana"/>
              </a:rPr>
              <a:t> 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Verdana"/>
              </a:rPr>
              <a:t>distanc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from the source</a:t>
            </a:r>
            <a:r>
              <a:rPr b="0" lang="de-DE" sz="1800" spc="-1" strike="noStrike" baseline="33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OCAL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he source is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t a smaller distance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rom the bo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GENERAL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he source is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t a greater distanc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from the bo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rapping after the therapy (an independent procedure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JURIES CAUSED BY IR EFF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tara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during long eye exposure to IR radiation;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tective glass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voding looking directly at the sou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r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79560" indent="-27468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ypesthesis in neurological disea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79560" indent="-27468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nadequate lamp handling (direct contact with the ski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Introduction to e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lectrostimulation, stable galvanization, electroforesis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traction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, kryotherapy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Lesions of the PMN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yalgi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euralg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Post-traumatic conditions of the soft tissues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(after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</a:rPr>
              <a:t> 48 h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egenerative and extra-articular rheumat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kin diseases (acne, furunculi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fungal diseas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herpe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ubitu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ain after a tooth extrac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rontal and maxillary sinus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cute skin and joint inflam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 tubercul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lusive arterial dise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n anesthesia to thermal stimul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czema, dermatitis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457200" y="9216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DIAGNOSTIC USE OF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Thermograph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s photograph registration of the skin temperature - thermogram. It indicates the state of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circulation in the epidermi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— it depicts the condition of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аrterial blood vessels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flow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Thermovisio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provides d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stribution of surface body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temperature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n a short tim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1"/>
          <a:stretch/>
        </p:blipFill>
        <p:spPr>
          <a:xfrm>
            <a:off x="2563920" y="3429000"/>
            <a:ext cx="434340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LIOTHERAP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DIAGNOSTIC USE OF IR RADIA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457200" y="1844640"/>
            <a:ext cx="8143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rared photography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hort IR rays directed at the skin show the state of the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venous system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(arterial blood vessels are not see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t is used for the diagnostics of the venous circulation in the mammary glands, circulation during gravidity and post-partum, venous circulation in portal hypertension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HELI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95280" y="1052640"/>
            <a:ext cx="82803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nlight contain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45-5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0% of IC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48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% o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visible light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1-3% of UV and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2% of other ray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effec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the Sun depends on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he seas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Part of the day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in the zenith its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intensity is about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times stronge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Above-sea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hickness of the air lay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Cloudin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Air pollutio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dust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smoke, soot, water steam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other particles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HOTOSENSITIV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ca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sitivit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kin of the chest, back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abdomen and flexor sides of the extremiti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ividua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sitivit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nd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ysiological condition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gnancy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reast fee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8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igmentation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ease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inism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M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8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c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of photosensitizers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dy region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HYSIOLOGICAL SUN EFF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457200" y="1413000"/>
            <a:ext cx="81439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immunobiological reaction of the organ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algesi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the skin turg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d exchange of gas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lance of the vegetative nervous syste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 of the 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</a:rPr>
              <a:t>Hg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eve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lood elemen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ion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itamin 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rmalization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P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the tissues etc.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250920" y="1484280"/>
            <a:ext cx="3529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nbathing scheme by Rolli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imum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3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de effect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r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ratoconjunctivit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nstrok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cancerous and cancerous les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4389480" y="1279440"/>
            <a:ext cx="4371840" cy="4753080"/>
            <a:chOff x="4389480" y="1279440"/>
            <a:chExt cx="4371840" cy="4753080"/>
          </a:xfrm>
        </p:grpSpPr>
        <p:pic>
          <p:nvPicPr>
            <p:cNvPr id="274" name="Picture 4" descr=""/>
            <p:cNvPicPr/>
            <p:nvPr/>
          </p:nvPicPr>
          <p:blipFill>
            <a:blip r:embed="rId1"/>
            <a:stretch/>
          </p:blipFill>
          <p:spPr>
            <a:xfrm>
              <a:off x="4389480" y="1279440"/>
              <a:ext cx="4295880" cy="47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5"/>
            <p:cNvSpPr/>
            <p:nvPr/>
          </p:nvSpPr>
          <p:spPr>
            <a:xfrm>
              <a:off x="7010280" y="1484280"/>
              <a:ext cx="12938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8381880" y="2819520"/>
              <a:ext cx="379440" cy="23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Minute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1:33:56Z</dcterms:created>
  <dc:creator>+++</dc:creator>
  <dc:description/>
  <dc:language>en-US</dc:language>
  <cp:lastModifiedBy>Nada Miklja</cp:lastModifiedBy>
  <dcterms:modified xsi:type="dcterms:W3CDTF">2023-09-26T09:23:30Z</dcterms:modified>
  <cp:revision>940</cp:revision>
  <dc:subject/>
  <dc:title>PowerPoint-Präsentation</dc:title>
</cp:coreProperties>
</file>